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3F8B-CE3A-4DD7-9507-EC8FDBAA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8385-78DB-445C-935E-4530029C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D385-8923-481D-9F52-07DE9860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D8D2-8474-4C50-8E77-3EFB689B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19BD-DF4D-45B1-AC7D-8F321EF3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8091-69A1-4658-B22D-CB22339F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10D1-E049-4135-865D-F754A494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3652-4F01-455A-BCD0-D44BAC53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B0DE-62A1-414C-9259-683266BA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DA70-4594-4786-A3A3-92DB7D90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245E-9B81-4A62-8C7D-DAA0703A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7DCC-07BE-46F6-9E22-4A5EC7BF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AB22-02A0-4832-887D-3365D9916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next.wav" TargetMode="External"/><Relationship Id="rId2" Type="http://schemas.microsoft.com/office/2007/relationships/media" Target="file:///tmp/home/.config/libreoffice/4/user/gallery/next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irst-Order Theo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Communica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-Order 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est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Moore, Halpern et al., Leves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world ≡ temporal situation ≡ a possible way the world could be at an i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_acc(A,SA,SB) – As far as A knows in SA, the world could be S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ows φ in S – Every SA accessible from S satisfies 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5425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knowledg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holds(SA,on(x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no one knows who killed J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exists(A1,A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B) k_acc(A1,SA,SB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SB1,SB2) SB2 &lt; SB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2,kill(jr)),SB1,SB2)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8350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1 and A2 have shared knowledge of φ if they each know φ, they know that the other one know it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1,A2,SA,SB) – SB is accessible from SA relative to the shared knowledge of A1,A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ve closure of k_acc(A1..), k_acc(A2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350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communicate(AH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inform(AH,Q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neralized fluent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roperty of sit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0015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on(x,y))),s0,s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there is a red block o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Q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X) red(X) ^ block(X) ^holds(S,on(X,y))]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Q)),s0,s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6112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Sam who killed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Q,A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3,S4) S4&lt;S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K,kill(jr)), S3,S4)]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john,inform(sam,Q)),s0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700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tells Bob he has never told her anything she didn’t already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Q1,S2,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ccurs(do(bob,inform(alice,Q1)),S2,S3)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 &lt; S]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2A) k_acc(alice,S2,S2A)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(S2A,Q1)]] 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(do(alice,inform(bob,Q)),s0,s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205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on axiom: There is a fluent for every property of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 is any formula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ists(Q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AS can communicate with AH, then AS can tell AH anything AS kn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sible(do(AS,communicate(AH)),S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easible(do(AS,inform(AH,Q)),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orall(SA) k_acc(AS,S,SA) =&gt; holds(SA,Q)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4770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informs AH of Q, then they have shared knowledge that AS has informed AH of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occurs(do(AS,inform(AH,Q)),S1,S2)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S,AH,S2,S2A)]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A) occurs(do(AS,inform(AH,Q)),S1A,S2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975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S and AH have shared knowledg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act of AS informing AH that Q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as the act of informing AH that Q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S,inform(AH,Q)),S1,S2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ccurs(do(AS,inform(AH,Q1)),S1,S2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1A) sk_acc(AS,AH,S1,S1A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olds(S1A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ds(S1A,Q)]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824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apologies for not being able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: NSF for f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ra Morgenstern fo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-Anne Williams and Stu Shap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elping with this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75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tells AH something which is fals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that AS finishes speaking, then 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s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end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 tells Bob that the light is on, while turning it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Bob that Bob is mis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7350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of 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dox relies on the unique-names assumption that we have rej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not only informed Bob that 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misled. He has also informed Bo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is misled and this is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ituation”, which is certainly mis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7236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xpected ha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udge tells a prisoner: You will be 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oon within the next 30 days, bu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know that morning that you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am alive on the morning of the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y must hang me no later than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f I am alive on the morning of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644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lution to Unexpected Ha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presentation of w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, only wha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.  And the judg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oul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o tell him that he will be hung o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possible worlds structure in which the judge knows that his declaration is true whatever he (judge) chooses to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6140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be sure that the next paradox won’t clobber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theorem: The axioms of knowledge and communication are consistent with just about any reasonable physical theory over discrete time, satisfying certain complex but non-restrictiv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5633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genstern (1988): Syntactic theory of knowledge and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n and Perrault: BDI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logic (Plaza, 1989; van Benthem 2003) – Communication as dynamic modal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ek et al. (1997): Modal operators B(P), I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6475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value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(A,Q) – Function from fluent to flu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(Davis and Morgenstern, in pre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tionary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7331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ing about Knowled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Communi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knows it will be sunny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 knowledge that, if it is sun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Bob can play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can communicate with B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Sam knows that there is something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that will cause Bob to know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be able to play tennis on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75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8754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tells Alice that he has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swers that Bob has never told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she didn’t already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Bob now knows that Alice already knew before he spoke that he had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5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nguage that can describe time, action, 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power of first-order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b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crib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unication and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025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s of thi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st-order language of time, action,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communication about past, present, and future; knowledge and ignorance; other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that supports inferences such as the two starting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ably consistent with a wide range of causal the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125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1254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of time, action,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and axiom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300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3004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and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structur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, branching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i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Dermott’s temporal log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 &lt; S2 – Situation S1 precedes S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(S,Q) – Fluent Q holds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E,S1,S2) – Action E occurs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al [S1,S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(E,S)  -- Action E is feasible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500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Causal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,puton(X,Y)),S1,S2) =&gt;               holds(S2,on(X,Y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is feasible in S iff E occurs over [S,S1] where S1 follows S on some bra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sible(E,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) occurs(E,S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950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21:45:34Z</dcterms:created>
  <dc:creator>davise</dc:creator>
  <dc:description/>
  <dc:language>en-US</dc:language>
  <cp:lastModifiedBy>davise</cp:lastModifiedBy>
  <dcterms:modified xsi:type="dcterms:W3CDTF">2004-05-26T16:31:07Z</dcterms:modified>
  <cp:revision>6</cp:revision>
  <dc:subject/>
  <dc:title>A First-Order Theory of Communicating First-Order Formulas</dc:title>
</cp:coreProperties>
</file>